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805-39FB-494A-9D45-85946A7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614-E9E2-4571-8689-471E884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061-7315-4611-9970-A9C6E8B3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722-CC14-440D-A27B-2E7283EC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600-8EF9-49EA-B186-C53E8CB7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8FA-8F0E-4CBC-8259-D52B88B1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DB1-58EF-4804-8091-AACF328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C43-987D-48A5-B82C-A9472EC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919-6233-40FB-925E-FBAE4424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4F9-7CDE-44E4-856D-4087D8C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80A-0D7F-46E3-A023-0560053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E13-774B-4413-9484-4019667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EC962-4567-4157-98C9-1776C29BCE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Effetti della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Liberalizzazione de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Commercio Internazional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nei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Distretti indiani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NTI DEI D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dian National Sample Survey (NS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nisce informazioni a livello dei nuclei familiari (di aree urbane e rurali) su caratteristiche di quest’ ultimi e dei singoli individui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ati riguardano tutti gli stati indiani e vengono usati per costruire le misure di povertà e disuguagl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ensimento  dell’India del 199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a qui sono ottenuti i dati sull’occupazione nei vari settori di ogni distretto, computando con peso diverso l’impiego in agricol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ariffe e barriere non tariffar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misurare i cambiamenti nelle politiche indi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ATEGIA EMPI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 luogo prima e durante le rifor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amo osservare l’impatto della liberalizzazione sui distr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rontiamo i distretti i cui settori sono rimasti protetti con quelli che invece hanno affrontato i maggiori shock causati dall’apertura commer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 fare ciò sfruttiamo la variazione nella composizione iniziale dei settori tra i distretti e il timing della liberalizz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ruiamo la misur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esposizione del distretto al commerc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e la media delle tariffe applicate al settore pesata per i lavoratori lì impiegati nel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il risultato a livello distrettuale in termini di misure di povertà e disuguaglia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riff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l’esposizione del distretto al commercio internazion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cattura l’effetto medio della protezione sul risultato region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consente di includere eterogeneità specifiche al distretto e non osser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sidera gli shock macroeconomici che colpiscono l’India nel suo compl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91524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899640"/>
            <a:ext cx="84582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e formula cattura gli effetti di breve – medio periodo dell’apertura al commercio in un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o distret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nità geograf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 serviamo di questa formula per rispondere al seguente quesito: i distretti hanno beneficiato (o sofferto) tutti allo stesso modo della liberalizzazione o alcuni ne hanno percepito gli effetti in maniera pesa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610840" cy="64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 potenziali complicaz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’ importante capire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n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e ha portato a far variare i livelli tariffari: potrebbe essere riconducibile a fattori endogeni al pa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otrebbe essere giustificato dalla continuazione di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end secol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ioè ad esempio la politica di sostituzione delle importazioni (percezione della capacità del settore di competere a livello internazion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ragione che ha spinto l’India a ridurre le tariffe però è esogena: crisi del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nuova politica non è nata da una prospettiva di sviluppo ben ponde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zioni tariffarie nei settori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trebbero rifletter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ersi livelli di efficienz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settori, o il potere lobbistico in alcuni di 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uttavia, i movimenti tariffari sono uniformi fino al 1997 e non sono correlati nè alle diverse produttività nè ad altre caratteristiche dei set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politica commerciale decisa con il Second Five Year Plan non è mai cambiata, benchè le circostanze e la natura dei settori si siano evol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ccezio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è costituita dall’agricoltura (cereali e colza): non si registra variazione nel livello dei dazi, e I prodotti agricoli  sono rimasti a lungo beni non commerciati per ragioni di sicurezza ali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50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3600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r quanto riguarda l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sure di povertà e disuguaglianz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onsideriamo l’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ead count rati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il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overty ga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per la povertà), l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eviazione standard del logaritmo di consum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e l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eviazione logaritmica media del consumo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per la disuguagli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tilizzando varie formulazioni si osserva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nell’India rurale c’è un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te relazione statistica negativ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ra livelli tariffari del distretto e povertà. Il declino dei dazi  ha condotto all’aumento degli indici di povertà nei distretti più esposti al commer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: ridurre i dazi del 5.5% conduce il poverty gap a crescere dal 3.2% al 4.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Non c’è una relazione così significativa nei distretti urbani dell’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Non esiste inoltre alcuna relazione importante tra la liberalizzazione e le misure di disuguagl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a forte differenza tra distretti urbani e rurali si spiega considerando che l’agricoltura, in precedenza iperprotetta tramite dazi, non è stata risparmiata dalle riforme commerciali del paese. Si è perseguita infatti un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olitica di standardizzazione delle tariff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più alto risultava il dazio pre-riforma, maggiore è stata la sua riduzione e l’aumento delle persone al di sotto della soglia di pover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IDITA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26000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li effetti del commercio sulla povertà potrebbero essere in realtà correlati anche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riabili omes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quindi procediamo a delle verifiche. Le variazioni tariffarie possono essere dovut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ersi trend di crescita nei diversi settori e nei distret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erse caratteristiche pre-esistenti dei setto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tre condizioni, come l'espansione degli 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n esiste però alcuna correlazione significativa al riguardo, sebbene una maggior quota di IDE è associata a riduzioni più veloci della pover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opinione comune che l’apertura al commercio internazionale comporti un incremento del PIL, ma poco si conosce degli effetti che ha sulla povertà e sulle disuguagli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i sono gli impatti, finora ignorati, della liberalizzazione del commercio sulla povert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spetto alla teoria standard del commercio, che implica perfetta mobilità dei fattori, osserviamo in India una sorprenden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enza di mobilità della manodope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quasi come se ogni distretto rappresentasse un mercato del lavoro a sé 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tti la componen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β risulterebbe nulla nel modello standard del commercio, implicando che l’intensità a livello locale della liberalizzazione non ha effetto sulla povertà: nel caso dell’India non è cos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tasso di migrazione complessivo non è basso, ma rimane costante anche dopo le riforme commerci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si osserva nemmeno un eleva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vello di riallocazione dei fattor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l’interno dei distretti tra i vari settori (da quelli in contrazione a quelli in espansione): ciò è dovuto principalmente a leggi sul lavoro piuttosto rig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istretti con leggi sul lavoro inflessibili non hanno avuto riallocazione dei fattori, e quindi una crescita complessiva minore e una riduzione più lenta della pover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ddove invece le leggi lo hanno consentito, la crescita è stata più veloce e le relative aree sono state protette dagli effetti dell’apertura al commer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AZIONI FI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ffetto principale dell’apertura al commercio è il cambiamento dei prezzi relativi dei prodotti: la variazione del reddito ha interessato tutti i sogg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o che sono impiegati nei settori interessati dal commercio ne hanno risentito molto perché un minor reddito li ha fatti cadere al di sotto della soglia di pover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iberalizzazione commerciale ha condotto ad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mento della povert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egistrato dagli indici, ne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retti rurali dove si concentrano i settori più esposti agli effetti del commerc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zioni nei livelli tariffari hanno condotto a +2% dell’incidenza della povertà e +0.6% degli strati più poveri della socie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e cifre rappresentano il 15% degli sforzi indiani nella riduzione della povertà durante gli anni ’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risultati di questo documento sono importanti alla luce delle politiche che i governi decidono di intraprendere: molti PVS si orientano, come l’India, verso misure di apertura al commercio inter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i sperano così di accelerare la crescita economica, migliorare gli standard di vita e ridurre la povertà, m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sperienza indiana inseg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, a seguito dell’implementazione delle riforme commerciali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ffetto complessivo si discosta da quello verificatosi all’interno dei singoli distretti del pa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4821" r="1668" b="0"/>
          <a:stretch/>
        </p:blipFill>
        <p:spPr>
          <a:xfrm>
            <a:off x="0" y="3808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po la Seconda Guerra Mondiale molti paesi in via di sviluppo, tra cui l’India, hanno intrapreso una politica commerciale basata sulla sostituzione delle import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li ultimi 20 anni invece la strategia di sviluppo più praticata è stata volta a favorire l’integrazione economica mondiale tramite l’apertura al commercio inter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effetti di tale politica sulla distribuzione del reddito possono però comportare notevoli costi sociali (es. maggior disuguaglianza) a meno che non vengano attuate politiche redistributive a favore di coloro che ne sono stati danneggi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o documento ricerca l’impatto delle riforme del commercio sulla povertà e disuguaglianza ne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retti indian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 non quindi l'impatto globale sul pae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’apertura commerciale colpisce tutti allo stesso modo o favorisce coloro che sono già relativamente benestanti lasciando indietro i più pove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Come fa variare la distribuzione del reddito tra le aree urbane e quelle rura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’effetto della liberalizzazione è percepito allo stesso modo tra le varie regioni indi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studio è stato fatto in India perch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qui, un terzo della popolazione mondiale vive al di sotto della soglia di povert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la natura della liberalizzazione è stata peculiare, cioè improvvisa e su larga 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celta della liberalizzazione è una risposta alla crisi nella bilancia dei pagamenti del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I DELL’APERTURA AL COMMERCIO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se 1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po l’indipendenza l’India adotta una strategi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sufficien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arcando l’importanza dell’intervento del governo nell’economia: protezione delle importazioni, proprietà pubblica dell’industria pesante, intervento pervasivo nell’intermediazione finanzi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egime commerciale indiano era tra i più restrittivi dell’ Asia: alte tariffe e barriere non tariffarie, un complesso sistema di licenze per le importazioni, preferenza della P.A. all’acquisto di prodotti domes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se 2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urante gli anni ’80 inizia 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duale processo di liberalizz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rso una crescita basata sulle esportazioni: riduzione delle licenze e sostituzione di quote con daz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ononostante la tariffa media rimane tra le più elevate, maggiore del 9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se 3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scale e della bilancia dei pag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India è vulnerabile a vari shock: crescita improvvisa del prezzo del petrolio, caduta delle ri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clima politico instabile mina la fiducia degli investitori: l’India è costretta a chiedere un prestito al FMI nel ’91, subordinato all’attuazione di riforme strutturali nel settore finanziario, fiscale e commer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 quote sono state ridotte dall’87 al 45% (1987-199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liminato il sistema delle licen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Dazi drasticamente ridotti dall’80 al 37% (1990-199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rupia viene svalutata due volte rispetto al dollaro, e l’India adotta un regime di cambi flessibili nel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volumi di import ed export superano la crescita in termini di output re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620120" cy="39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62040"/>
            <a:ext cx="9144000" cy="55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ilo_studente</dc:creator>
  <dc:description/>
  <dc:language>en-US</dc:language>
  <cp:lastModifiedBy>allievo</cp:lastModifiedBy>
  <dcterms:modified xsi:type="dcterms:W3CDTF">2007-12-10T12:20:54Z</dcterms:modified>
  <cp:revision>7</cp:revision>
  <dc:subject/>
  <dc:title>EFFETTI DELL’ APERTURA   AL COMMERCIO   INTERNAZIONALE NEI   DISTRETTI INDIANI</dc:title>
</cp:coreProperties>
</file>