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CEA-A36A-41E9-B9DE-08B10C6D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EBE9-C1BF-4E47-9641-74B289E8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A7D-3EE3-4058-80FB-FA7241A1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0F6-0C7D-4BEB-A100-8AD413AA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46B-4C60-40F3-B5FE-44DBEE7B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32B-A1F7-4DF3-B775-C1C2FEE9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E46F-B1A3-4184-9CA2-31D3811D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DAC-6A3A-41D8-BD3B-EC38562F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6E0-F96D-441A-ADD1-7613E7D4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91D-F76F-400B-9B44-5A2861A4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7E1-35ED-41DE-9E54-57B3A3C0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E06-0FE0-46EF-8FAB-D0BFA08B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39BE-D61F-466A-A205-23718124C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457200"/>
            <a:ext cx="79246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POLITICA COMMERCIALE E CRESCITA ECONOMIC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GUIDA PER GLI SCETTICI ALL’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EVIDENZA DI CROSS-NAT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F. Rodrigu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. Rodr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572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NAZIONI CON BARRIERE PIU’ BASSE AL COMMERCIO INTERNAZIONALE RIPORTANO LIVELLI DI CRESCITA ECONOMICA PIU’ VELOC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BASTIAN EDWARD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998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360" y="1828440"/>
            <a:ext cx="7489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za 9 indicatori diversi per misurare la robustezza della relazione tra apertura al commercio internazionale e cresci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i comparativi per 93 paes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si di solidità tra apertura e crescita del TF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POSTO:  Le imperfezioni di questi indicatori non sono rilevanti se il coefficiente di apertura positivo risulta abbastanza robusto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SERVAZIONI: la crescita del TFP è più veloce in economie apert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I: le regressioni riportate sono valide per l’utilizzo di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ndicatore di apertura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valutazione tecnica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eriodo di riferimento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orma funzional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 BEN- DAVI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9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1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za le convergenze tra diversi livelli di reddito e crescita economica durante il 20° secolo in UE e il 19° secolo in 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ia gli effetti di politiche commerciali nel reddito in Paesi aperti al libero s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POSTO: non c’è necessariamente una relazione tra livello di dispersione del reddito e tasso di crescita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SERVAZIONI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apporto tra convergenza dei redditi e trend di lungo periodo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ivelli di esperienza nei Paesi europei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sperienze di convergen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AUGH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si nei Paesi prima e dopo la liberalizzazione al commercio internaz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E: convergenza per paesi liberalizza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RI LAVO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E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Effetti distorsivi di restrizioni commerciali potrebbero essere più grandi in economie più esposte al commer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HARRISO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Con l’utilizzo di effetti fissi dà un contributo metodologico nell’esaminare la relazione tra politica commerciale e crescita. Nota che le serie temporali disponibili sono troppo c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WACZIAR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l’investimento è il canale più importante per la crescita dell’apertura al commercio internazio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I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si chiede se tutti questi modelli hanno uguali conclusion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tticismo di fondo nell’affermare che ci sia un rapporto negativo tra barriere al commercio internazionale e crescita econo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si può d’altro canto affermare che il protezionismo sia positivo per la crescita econo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21932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30592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POSTI DELL’ANAL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iste una relazione tra restrizione economica e crescita P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ello static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ercato senza imperfezioni: una barriera riduce il livello di P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ello stand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tecnologia esogena+rendimenti decrescenti dei fattori riproducibili della produzione: una barriera non ha effetti sul PIL nel l.p.(steady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ello di crescita endoge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ecnologia endogena+rendimenti non decrescenti dei fattori riproducibili della produzione:con barrier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s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 spinge la crescita della produzione, aumento P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’è una relazione negativa tra crescita e barriere?..DIPENDE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fallimenti di merc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crescita endog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304920"/>
            <a:ext cx="8610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609480"/>
            <a:ext cx="83818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LO MATSUYAMA (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OTESI: 2 settori A,M    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   tariffa sull’import di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SERVAZIONI: la tariffa ha l’effetto di allocare maggior forza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lavoro nel settore 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TTI: -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s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è positivo perché allarga e spinge le risorse nel settore 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sci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one una perdita dell’efficienza st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difficile giungere ad una conclusione univ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non ci sono legami teorici tra barriere e crescita nella real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esalta come le restrizioni distorcono il merc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160"/>
            <a:ext cx="7772400" cy="72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STORSIONE &amp; VARIABILITA’-D. DOLLAR (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&amp;V studiano l’orientamento all’esterno combinando 2 fatto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.livello di barriere protettive (input di produz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.variabilità nel tasso di cambio re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LAZIONE TRA LIVELLO DEI PREZZI E POLITICA COMMER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che condizioni le restrizioni al commercio associano un livello più elevato del P rela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gt;0 e t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0 aumenta il P interno dei be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0 e t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gt;0 non ci sono effetti sull’allocazione né sulla distribuzione dei beni.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il P interno è inferiore quindi il paese è orientato all’esterno secondo il metodo Dol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457200"/>
            <a:ext cx="86868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orsione sembra essere meno legata alla politica commerciale ma alla politica monetaria a caus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ipendenza dalla LOP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olitica aggressiva di svalutazione o bassa inflazio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osti di traspor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questo l’indice D  è appropriato come misura delle restrizioni commerciali qua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ci sono tasse all’esportazione o sussid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LOP è continuamente in vigo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ci sono differenze sistematiche nel livello dei prezzi relative a costi di trasporto e altri fattori geografi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457200"/>
            <a:ext cx="86104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llar ha affiancato all’indice D anche V perché dagli studi emergevano alcune “anomalie”. La V coglie i movimenti della struttura dei P inter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SULTATI EMER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inserendo i dati usati da Dollar nei modelli più recenti di cross-national emerge che l’indice V è robusto, mentre la D 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inserendo i dati nel database Summers-Heston e confrontandoli coi risultati originali di Dollar emerge che la relazione nella D è moderatamente alta, mentre la relazione nella V è molto più elev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GENER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indice V denota robustezza in qualsiasi indagine, l’indice D 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80880"/>
            <a:ext cx="8458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CHS &amp;WARNER (19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ruiscono un modello da 0 a 1 sull’apertura al C.I. che si basa su 5 indici che colgono diversi aspetti della politica commerci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e 0 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 tasso medio tariffe +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B barriere non tariffarie coprono +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 sistema economico socia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 monopolio per la maggior parte delle esport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MP premio mercato nero +20% negli anni 1970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0 o 1980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279360"/>
            <a:ext cx="85345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si chie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quali dei 5 indici sono responsabili della forza del modello S&amp;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BMP e il M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on quale intensità il BMP e il MON sono misure della politica commercia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risposta per cui questi due indicatori concorrono alla crescita si trova analizza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blemi macroeconomici per il BM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locazione Sub-Sahariana per il M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sa rappresenta il MON?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conomie africane: crescita più lenta rispetto al mondo tra anni ’70 e ’80.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sa rappresenta il BMP?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.P: fallimenti di politica e diminuzione della crescita.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SULTATI EMERSI: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mportanza rilevante della combinazione di MON e BMP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roduzione di 2 nuovi indicatori: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CRG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SE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6:50:41Z</dcterms:created>
  <dc:creator> .</dc:creator>
  <dc:description/>
  <dc:language>en-US</dc:language>
  <cp:lastModifiedBy>Studente</cp:lastModifiedBy>
  <dcterms:modified xsi:type="dcterms:W3CDTF">2007-12-17T12:12:30Z</dcterms:modified>
  <cp:revision>21</cp:revision>
  <dc:subject/>
  <dc:title>Presentazione di PowerPoint</dc:title>
</cp:coreProperties>
</file>