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C95B-1A23-4100-BB03-22E9E364296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cesso al mercato: garantire un preferenziale accesso al mercato ai 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gole collegate: i paesi svlipuppati devono garantire assistenza tecnica ai psv, per renderli in grado di essere piu autonomi, sono quindi aiuti transitor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referenza è data a quei paesi che fanno parte di accordi di libero scam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l comm int riduce la povertà, promuove lo sviluppo e aiuta la cresci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Un trattamento differenziato ricordiamo aumenta le disriminazioni, e favorirebbe solo alcuni pae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) Si eliminano i fallimenti del mercato che derivano dagli SDT: esi benefici di particolari gtuppi di interesse dei paesi sviluppati: per esempio chi esporta prodotti agricoli o tessi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si deve assicurare che le regole si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D47E-6EB1-47BF-90F4-63850E524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2262-5E66-49D5-B985-1A798D18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DC8C-F02F-46E7-AEB7-3A2732008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A4BF-019C-4EC5-8D4A-E3B8CC77B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89B9-CEE8-4F47-8C3F-DBF2D3F87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2AFE-2D1E-4AB4-8DDF-E9AEBCDF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2A3B-D06E-4DC6-A5E4-047850FC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AE85A-AC19-4A1D-9F82-C71B8049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56F7-106D-4EBE-9DEC-E6210A28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50A1-2658-4152-A5A9-27AC13F0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9FA47-D219-422E-A4BA-0374AC68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214F-1795-4B31-B5C7-33622B12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A80C-8458-4769-9C18-32A6C612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FA89-BA9F-476B-A7AF-A4E7AAD6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3D013-0A57-40D3-B372-D49D5CE9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D2CEB-80C3-4103-AED1-BD60C9E92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19E9-51E2-46C8-8EC6-18288AEC4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E286-9911-44A1-AFCA-CBF3413D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0159-28EB-4223-88A1-455D982B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2E4D-8B5D-44D9-A4F4-0C986DAB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664B-738F-4C2E-9EEE-7467B3CC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CD28-D3B4-4D97-9C44-732D4FD2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1E31-4054-404C-BB71-E29E255B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2626-B19F-4D64-A803-13674C87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66DC-2F0F-423C-9B77-3F899B7EE8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33A9-A770-4D44-A77F-C201F52ADA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1917360"/>
            <a:ext cx="77724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e5ffff"/>
                </a:solidFill>
                <a:latin typeface="Lucida Sans Unicode"/>
              </a:rPr>
              <a:t>Trattamenti speciali e differenziati per i paesi in via di sviluppo nel WTO: oltre Cancu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Lucida Sans Unicode"/>
              </a:rPr>
              <a:t>Paolo Tor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Lucida Sans Unicode"/>
              </a:rPr>
              <a:t>Sara Bellamoli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D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PSV richiedono un trattamento più favorevole nel sistema commerciale nel sistema del W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esti SDT favorirebbero la loro posizion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OHA ROUN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A Doha si afferma l’importanza degli SD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Gli SDT sono parte integrante degli accordi del W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Si discute inoltre di un possibile rafforzamento degli SDT entro il 200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e5ffff"/>
                </a:solidFill>
                <a:latin typeface="Tahoma"/>
              </a:rPr>
              <a:t>Fallimento del Doha roun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Gli sforzi fatti per rafforzare più operativi gli SDT fallisco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PSV li considerano senza significa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Developed Country considerano gli SDT antieconomici e antiqua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li SDT ogg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 hanno due visioni degli SDT oggi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) Accesso al merca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) le regole collegat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li SDT: Segu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A Doha i PSV insistettero per il rafforzamento degli SD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Riscrivere gli SDT in modo da favorire lo sviluppo del Low income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SDT legittimi per i Paesi sviluppat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idisegnare gli SD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2924280"/>
            <a:ext cx="8229600" cy="18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i SDT oggi non mostrano il WTO come strumento di aiuto per i PS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DT: MARKET ACCESS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Storicamente gli sforzi fatti per rafforzare gli SDT: i GS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Ultimamente i Developed Countries hanno incrementato i commerci preferenziali con i LDC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Es: Everything but arms, US African Growth and Opportun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ccordi preferenziali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nno effetti positivi, ma dipendono troppo d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to dell’offerta ( UE e U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acità di mettere a frutto i ricavi dalle operazion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troppa complessa rete di documenti che servono per accedere a questi programm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trattamenti differenziali sono discriminato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e accertare quali paesi meritano un trattamento differenziale e quali n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lla realtà c’è una gerarchia delle preferenze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UE, NAF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 povertà va ridotta dove c’è, non in base a dove un paese è localizzato geograficamente e fa parte di uno speciale accor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lti poveri vivono in aree che non appartengono alla categoria di LD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934920" y="1603440"/>
            <a:ext cx="6915240" cy="3240000"/>
            <a:chOff x="934920" y="1603440"/>
            <a:chExt cx="6915240" cy="3240000"/>
          </a:xfrm>
        </p:grpSpPr>
        <p:cxnSp>
          <p:nvCxnSpPr>
            <p:cNvPr id="92" name="_s5147"/>
            <p:cNvCxnSpPr>
              <a:stCxn id="93" idx="0"/>
              <a:endCxn id="94" idx="2"/>
            </p:cNvCxnSpPr>
            <p:nvPr/>
          </p:nvCxnSpPr>
          <p:spPr>
            <a:xfrm flipV="1" rot="16200000">
              <a:off x="5351040" y="2345760"/>
              <a:ext cx="1033920" cy="2377080"/>
            </a:xfrm>
            <a:prstGeom prst="bentConnector3">
              <a:avLst>
                <a:gd name="adj1" fmla="val 1104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5" name="_s5146"/>
            <p:cNvCxnSpPr>
              <a:stCxn id="96" idx="0"/>
              <a:endCxn id="94" idx="2"/>
            </p:cNvCxnSpPr>
            <p:nvPr/>
          </p:nvCxnSpPr>
          <p:spPr>
            <a:xfrm flipV="1" rot="16200000">
              <a:off x="4234320" y="3462480"/>
              <a:ext cx="1033920" cy="143640"/>
            </a:xfrm>
            <a:prstGeom prst="bentConnector3">
              <a:avLst>
                <a:gd name="adj1" fmla="val 1104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7" name="_s5145"/>
            <p:cNvCxnSpPr>
              <a:stCxn id="98" idx="0"/>
              <a:endCxn id="94" idx="2"/>
            </p:cNvCxnSpPr>
            <p:nvPr/>
          </p:nvCxnSpPr>
          <p:spPr>
            <a:xfrm flipH="1" flipV="1" rot="5400000">
              <a:off x="2812680" y="2183760"/>
              <a:ext cx="1033920" cy="2701080"/>
            </a:xfrm>
            <a:prstGeom prst="bentConnector3">
              <a:avLst>
                <a:gd name="adj1" fmla="val 1104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4" name="_s5141"/>
            <p:cNvSpPr/>
            <p:nvPr/>
          </p:nvSpPr>
          <p:spPr>
            <a:xfrm>
              <a:off x="2303280" y="1603440"/>
              <a:ext cx="4751640" cy="14144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Ruolo Importante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Del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ommercio internaziona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_s5142"/>
            <p:cNvSpPr/>
            <p:nvPr/>
          </p:nvSpPr>
          <p:spPr>
            <a:xfrm>
              <a:off x="934920" y="4051440"/>
              <a:ext cx="2087640" cy="7207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Riduzione dell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povertà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_s5143"/>
            <p:cNvSpPr/>
            <p:nvPr/>
          </p:nvSpPr>
          <p:spPr>
            <a:xfrm>
              <a:off x="3886200" y="4051440"/>
              <a:ext cx="1873080" cy="792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Promozion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Dello svilupp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_s5144"/>
            <p:cNvSpPr/>
            <p:nvPr/>
          </p:nvSpPr>
          <p:spPr>
            <a:xfrm>
              <a:off x="6262560" y="4051440"/>
              <a:ext cx="1587600" cy="792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Aiuta l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Crescit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eferenze geografich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È corretto dedicarsi a particolari aree come quella sub- Sahariana o i paesi LC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 ignorano però le altre aree pov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na Soluzion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zzerare le tariffe ovunque: riduzione delle preferen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ò è politicamente difficile, specie per Cina e Ind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e come la Sub-Sahariana incidono poco nel commercio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acilmente liberalizzabil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na seconda soluzion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n offrire un trattamento differenzia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a via più profittevole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olitica del MFN, soprattutto per i prodotti più importanti dell’expor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F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’accesso al mercato basato sul MFN: ha un più grande impatto sullo svilupp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) riequilibra il merca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) aiuta tutti i PS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) rimuove le barriere politiche alla formazione di riforme del commercio nei PS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olt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rre delle scadenze agli obiettiv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videre il livello dei daz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cificare su quali prodotti attuare le politiche commercial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ggerimento: entro il 201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3213000"/>
            <a:ext cx="8229600" cy="28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) tariffe sui manufatti &lt; 5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) tariffe sui beni agricoli &lt; 1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ggerimento: entro 2015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iminare tutte le tariffe sui beni manufat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 stabilire questa riforma si devono però offrire delle reciproche concessio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 Serviz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no importanti per i PS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’è quindi l’opportunità di liberalizzare i serviz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 SERVIZI: segu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Possibile apertura dei developed countries ai lavoratori dei PS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Questo potrebbe generare grandi profit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A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È un accordo che permette di attuare politiche discriminatorie preferenziali da parte dei paesi sviluppa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 politica commercia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itiche complementar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__________________________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usto mix per ridurre la povertà e   promuovere lo svilup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ò che conta di più per i PSV non è il servizio in se, ma l’accesso al mercato dei Serviz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tuare politiche che riducano le barriere al commercio di serviz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rvizi per i quali i PSV hanno interes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L DIBATTITO SUGLI SD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ccff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isione dei principi esisten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ccff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tività che in futuro assicureranno nuove normative in sostegno allo svilup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gli accordi attuali devono essere bilanciati secondo gli interessi dei paesi emergen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er le normative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NE SIZE DOESN’T FIT ALL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Distinzione tra normative  “CORE”  e “NON CORE”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) NORMATIVE COMMERCIALI “CORE”: “TAGLIA UNICA”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umenti strategici commerciali tradizionali (quote di importazione e simili): poca efficaci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i interventi nel mercato sono giustificati solo quando vi siano distorsioni del mercat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….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le normative riguardanti il divieto di ricorrere alle restrizioni sulle quantità e le tariffe vincolanti favoriranno i consumatori e aumenteranno il welfare nei PS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vi saranno inoltre normative sulla trasparenza delle politiche commerciali, per evitare importazioni che potrebbero essere dannose per l’ industria naziona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ICERCA DI PRINCIPI RICONOSCIUTI UNIVERSALMENTE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Symbol"/>
                <a:ea typeface="Symbol"/>
              </a:rPr>
              <a:t>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ECESSITA’ DI RIVEDERE IMPORTANTI ACCORDI DEL WT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  <a:ea typeface="Times New Roman"/>
              </a:rPr>
              <a:t>b)NORMATIVE E ACCORDI GRAVOSI IN TERMINI DI RISORSE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lcro della negoziazione:LA RECIPROCITA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…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DUBBI SULLA RECIPROCITA’ DELLE POLITICHE NORMATIV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e5ffff"/>
                </a:solidFill>
                <a:latin typeface="Tahoma"/>
              </a:rPr>
              <a:t>PERCHE’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2971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 reciprocità sulle politiche normative rimane più dubbia a causa delle differenze tra le priorità nazionali dei vari paes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DIFFERENZIAZIONE” TRA I PSV PER QUANTO RIGUARDA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ccff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portata delle normative che richiedono ingenti risor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ccff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accordi potrebbero non essere “priorità di sviluppo” o richiederebbero precondizio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DT PORTEREBBERO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Flessibilità totale per i PSV almeno che non si danneggino gli altri membri del W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Un approccio specifico a seconda dell’ accordo, con criteri di applicabilità in base al pae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Un approccio specifico a seconda del paese che pone le priorità di riforme commerciali nel contesto dei piani di sviluppo nazional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Ridefinizione della classificazione usata dal WTO che distingue PAESI LDC, PSV e DEVELOPED COUNTRIES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Analisi economica per identificazione razionale delle priorità di sviluppo 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ermettendo di determinare in anticipo costi/benefici dall’ applicazione delle normative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olitiche commercial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no influenzate non solo dalle scelte inter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no influenzate anche dalle scelte commerciali dei vari stati che operano nel merca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MPORTANTE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ire gli accordi gravosi in termini di risor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membri riconoscano che le facoltà e le priorità differiscono molto tra di essi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rovare approcci alternativ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e5ffff"/>
                </a:solidFill>
                <a:latin typeface="Tahoma"/>
              </a:rPr>
              <a:t>c) BILANCIARE GLI ACCORDI GIA’ ESISTENTI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2 ACCORDI IMPORTANTI PER I PS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ACCORDI SULL’ AGRICOLTU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TRIPS (Trade Related Aspects of International Property Right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1) ACCORDI SULL’ AGRICOLTURA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sure per salvaguardare la sicurezza alimentar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sure per stimolare la produzione agricola nelle aree rurali pov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2) TRIPS 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Accordi attuali non riescono a dare risalto ai PS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Necessità di: maggiori informazioni, analisi costi/benefi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e….più attenzione a requisiti d APPILCABILITA’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2209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DIETRO LE REVISIONI SDT: IMPLICAZIONI DI CANCU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ROPOSTE SDT NEL 2002-2003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601"/>
              </a:spcBef>
              <a:buClr>
                <a:srgbClr val="00ccff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gliorare gli accessi preferenziali ai mercati dei paesi industrializza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buClr>
                <a:srgbClr val="00ccff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cludere alcune specifiche regole del WTO, implicando maggior libertà all’ uso di politiche commerciali restrittive o esenzione da regole richiedenti l’ adozione di comuni discipline amministrati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assistenza tecnica e finanziaria per aiutare i PSV ad implementare regole derivanti da accordi multilateral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buClr>
                <a:srgbClr val="00ccff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gliorare i processi di approvvigionam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PER ATTUAZIONE</a:t>
            </a:r>
            <a:br>
              <a:rPr sz="3600"/>
            </a:br>
            <a:r>
              <a:rPr b="0" lang="en-US" sz="3600" spc="-1" strike="noStrike">
                <a:solidFill>
                  <a:srgbClr val="e5ffff"/>
                </a:solidFill>
                <a:latin typeface="Symbol"/>
                <a:ea typeface="Symbol"/>
              </a:rPr>
              <a:t></a:t>
            </a:r>
            <a:br>
              <a:rPr sz="36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3 BLOCCHI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RLY HARVEST SET”-12 proposte riguardant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sistenza tecnica, trasparenza e informazione negli scamb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ità di retribuzione e protezione del lavoro minori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uti ai PSV per aumentare le performance aziendal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bassare oneri per licenze, con incentivi ad adeguarsi agli accordi TRI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2) Regole co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regole di integrazione regiona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- politiche anti dump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- TRI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- Agricol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80880" y="243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3) Interventi per i LDC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(=Last Developed Countri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Un primo passo per miglioramento degli SDT….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bilire gruppi operativi di alto livello che agiscano secondo gli indirizzi del Consiglio Generale del WTO pe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gare su differenti opzioni, possibili approcci alternativ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eterminare quali regole richiedono ingenti risorse per l’ implementazio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e5ffff"/>
                </a:solidFill>
                <a:latin typeface="Tahoma"/>
              </a:rPr>
              <a:t>Politiche agricole dei Developed Countries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229600" cy="32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nno aumentare la volatilità dei prezz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eboliscono gli agricoltori delle aree meno svilupp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stacolo per una riforma del sistema di politiche commerciali dei PS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ducono l’accesso al mercato da parte dei paesi in via di svilupp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SV E PAESI A BASSO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REDDITO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ca capacità di offer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sti elevati di ambienti in cui opera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ficoltà di gestire gli standard di salute e sicurez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mitazioni a crescita delle esportazio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5ffff"/>
                </a:solidFill>
                <a:uFillTx/>
                <a:latin typeface="Tahoma"/>
              </a:rPr>
              <a:t>Costi di approvvigionamento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mitare i costi associa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nefici dalle nuove regole di accesso al merca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ortante: aiutare questi paesi a gestire le normative di riferimento e consentire un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miglioramento delle condizion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5ffff"/>
                </a:solidFill>
                <a:uFillTx/>
                <a:latin typeface="Tahoma"/>
              </a:rPr>
              <a:t>Sviluppo tecnologico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stenere i PSV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acità di costruire diritti di proprietà intellettual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tabilire competenze pubbliche e privat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costruire un mercato che si basi sulle nuove tecnologi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incentivi allo sviluppo delle tecnologie all’ interno delle impres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vantaggi fiscali per costi di Ricerca e Svilupp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5ffff"/>
                </a:solidFill>
                <a:uFillTx/>
                <a:latin typeface="Tahoma"/>
              </a:rPr>
              <a:t>Assistenza al commercio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v’ essere “country focused”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per massimizzare  i finanziament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per assicurare l’ assistenza nelle aree definite di “priorità di intervento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clusion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’approccio tradizionale agli SDT nel GATT /WTO non è stato proficuo per lo svilup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 sente il bisogno di ridisegnare gli SDT nel WT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crescere la loro efficacia nell’aiutare i PSV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n nuovo approcci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gliorare l’accesso al mercato riducendo le barri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durre le distorsioni derivanti dalle politiche agricol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n attuare politiche discriminator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igliorare l’accesso al merca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Migliorato attraverso politiche MFN bas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Sia sul lato dei prodotti e dei serviz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Sia basandosi su un rapporto di reciprocit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Far si che i big market players accettino l’eliminazione dei dazi e delle altre politiche commerciali per quei beni in cui i PSV hanno un vantaggio comparat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’assistenza ai PS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 deve offrire un assistenza tecnica e finanziaria ai vari programmi operativ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 ci deve allontanare d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) le attuali politiche che favoriscono solo alcuni PS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) le politiche commerciali che creano una distorsione nei mercati dei PS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e rego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Bisogno di regole ben chiare </a:t>
            </a:r>
            <a:r>
              <a:rPr b="0" lang="it-IT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dal punto di vista dello svilup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Riconoscere che una dimensione unica non va bene per tut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Si richiede quindi una differenziazione ni meccanismi di negoziazi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Espandere la lista dei PS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luzione fina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Ri – negoziazione delle regol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Con Cancun si evince quindi che la ridefinizione delle regole di negoziazione è un argomento urgente per i membri del W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ffffff"/>
                </a:solidFill>
                <a:uFillTx/>
                <a:latin typeface="Tahoma"/>
              </a:rPr>
              <a:t>È un forum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Per negoziare l’accesso al mercato da parte dei PS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Per stabilire le regole di base per entare nei vari merca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razie per l’attenzion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mand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gole precise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rtano benefici ai PSV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ducono l’incertezza riguardo le future politiche applicate dagli altri gover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ducono la forte influenza dei grandi paesi che operano nel merca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voriscono i PSV che sono in # maggio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e regole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Devono essere giuste ed e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Fin’ora </a:t>
            </a:r>
            <a:r>
              <a:rPr b="0" lang="it-IT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riflettevano gli interessi dei Big market play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Es: le politiche agricole o le quote di import sui prodotti tessil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e rego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favore dello svilup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 sia una visione comune su come queste regole favoriscono lo svilup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ò per garantire che il WTO come finalità quella di favorire la crescita e lo svilup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3T15:01:53Z</dcterms:created>
  <dc:creator>Tormen</dc:creator>
  <dc:description/>
  <dc:language>en-US</dc:language>
  <cp:lastModifiedBy>BELLAMOLI SERGIO</cp:lastModifiedBy>
  <dcterms:modified xsi:type="dcterms:W3CDTF">2007-12-17T12:40:36Z</dcterms:modified>
  <cp:revision>21</cp:revision>
  <dc:subject/>
  <dc:title>Trattamenti speciali e differenziati per i paesi in via di sviluppo nel WTO: oltre Cancun.</dc:title>
</cp:coreProperties>
</file>